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14468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20720"/>
            <a:ext cx="479556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414468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187E1-C6B0-4013-83B4-467449ECA5D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06400"/>
            <a:ext cx="6858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o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Automate detection of all main acceleration features (not only the main bunch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Method should work reliably under large range of experimental settings without chan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Support fast exploration of the found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ccomplish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novel algorithm for detecting particle bunches and their sub-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Provide global as well per time step statistics for each fe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prototype interface for feature exploration and selection including particle selec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41840" b="0"/>
          <a:stretch/>
        </p:blipFill>
        <p:spPr>
          <a:xfrm>
            <a:off x="7089840" y="700200"/>
            <a:ext cx="204768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3"/>
            <a:endCxn id="54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63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2"/>
            <a:endCxn id="55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5" idx="2"/>
            <a:endCxn id="56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6" idx="2"/>
            <a:endCxn id="57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7" idx="2"/>
            <a:endCxn id="58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8" idx="2"/>
            <a:endCxn id="63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3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4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472280" cy="5486400"/>
          </a:xfrm>
          <a:prstGeom prst="rect">
            <a:avLst/>
          </a:prstGeom>
          <a:ln w="2844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3"/>
            <a:endCxn id="77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86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7" idx="2"/>
            <a:endCxn id="78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2"/>
            <a:endCxn id="79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9" idx="2"/>
            <a:endCxn id="80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0" idx="2"/>
            <a:endCxn id="81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1" idx="2"/>
            <a:endCxn id="86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5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98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72200" y="4359240"/>
            <a:ext cx="1974960" cy="2413080"/>
          </a:xfrm>
          <a:prstGeom prst="rect">
            <a:avLst/>
          </a:prstGeom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3"/>
          <a:srcRect l="14965" t="1204" r="2536" b="6493"/>
          <a:stretch/>
        </p:blipFill>
        <p:spPr>
          <a:xfrm>
            <a:off x="4267080" y="762120"/>
            <a:ext cx="4800600" cy="34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4"/>
          <a:srcRect l="47727" t="25394" r="45734" b="54524"/>
          <a:stretch/>
        </p:blipFill>
        <p:spPr>
          <a:xfrm>
            <a:off x="5791320" y="4346640"/>
            <a:ext cx="1216080" cy="242568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5"/>
          <a:srcRect l="21459" t="63636" r="70687" b="28307"/>
          <a:stretch/>
        </p:blipFill>
        <p:spPr>
          <a:xfrm>
            <a:off x="4267080" y="4343400"/>
            <a:ext cx="1447920" cy="96516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4724280" y="3124080"/>
            <a:ext cx="381240" cy="228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676520"/>
            <a:ext cx="380880" cy="83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67080" y="3124080"/>
            <a:ext cx="45720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124080"/>
            <a:ext cx="60948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1320" y="16765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676520"/>
            <a:ext cx="45720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741240"/>
            <a:ext cx="822960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Particle Selec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2700" r="0" b="450"/>
          <a:stretch/>
        </p:blipFill>
        <p:spPr>
          <a:xfrm>
            <a:off x="152280" y="838080"/>
            <a:ext cx="8839440" cy="534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es Bethel</dc:creator>
  <dc:description/>
  <dc:language>en-US</dc:language>
  <cp:lastModifiedBy>Byounghak Lee</cp:lastModifiedBy>
  <cp:lastPrinted>2010-04-11T07:22:27Z</cp:lastPrinted>
  <dcterms:modified xsi:type="dcterms:W3CDTF">2010-04-26T07:06:23Z</dcterms:modified>
  <cp:revision>21</cp:revision>
  <dc:subject/>
  <dc:title>PowerPoint Presentation</dc:title>
</cp:coreProperties>
</file>